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67F81-773C-4902-9288-228090B69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E23E5-F570-4907-84FC-25520E14A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12CE6-5383-4285-BFD2-1522EC0A1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1017A-BAC5-4992-9FF9-2EA777B9D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FA0AF-A722-4327-8330-CC61C5372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4A0DC-2C45-4CB6-8E17-D1F212F17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C2545-8561-4569-BF16-E945F581A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D379B-4930-4B9A-982D-9D369855E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06F1B-334D-4041-B569-AE2A04504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40310-7C46-431E-9DC8-9E31B350B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633E4-51F8-4F1F-83CE-77EE9F17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16DD1-A28C-473E-A3BF-7957C93B1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528B3-F13D-42C1-B3E4-051806E8D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AC3E6-EE13-4C46-B723-458D0D74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71715-9514-414D-B29D-2775A769B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29DA6-9D70-43D8-9BD0-14C448DD8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FE5D2-1E5F-4E0B-A0BF-401A393A0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6EB0E-1A01-45B6-AFAB-E4F62275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EBA21-4E69-42AE-B02A-190B2189D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C4D23-DE86-4D2A-AF86-BB054FBB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2C949-EB15-49EF-B47D-9F051C11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F63B-D382-48C7-931B-8D51A7355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0B964-7248-498C-8BE8-8B696E86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9CC8-6CB4-4C2C-A76E-DD41D6ECF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C3C9-BD95-4123-A8E2-114205FBF9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9E73-0181-4977-9604-6861F80141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Other Half of</a:t>
            </a:r>
            <a:endParaRPr b="1" lang="en-US" sz="3600" spc="-1" strike="noStrike">
              <a:solidFill>
                <a:srgbClr val="9900cc"/>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Habit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to handle Hard Moments</a:t>
            </a:r>
            <a:endParaRPr b="1" lang="en-US" sz="3600" spc="-1" strike="noStrike">
              <a:solidFill>
                <a:srgbClr val="9900cc"/>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tro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do something stupid that will affect you for the rest of your lif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ive in to one night of pleasure</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ekend of excitemen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illing moment of reve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Overcoming Peer Pressure</a:t>
            </a:r>
            <a:endParaRPr b="1" lang="en-US" sz="3600" spc="-1" strike="noStrike">
              <a:solidFill>
                <a:srgbClr val="9900cc"/>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ing NO when all your friends are saying yes, takes raw courag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Won’t Powe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a large deposit into your personal bank accou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t all peer pressure is bad-sometimes the pressure you get it to be your best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Common Ingredient of Success</a:t>
            </a:r>
            <a:endParaRPr b="1" lang="en-US" sz="3200" spc="-1" strike="noStrike">
              <a:solidFill>
                <a:srgbClr val="9900cc"/>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ipline</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nage your tim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peer pressur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your fear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strong in the hard mo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l successful people have the habit of doing the things failures don’t lie to do.  They don’t like doing them either necessarily.  But their disliking is subordinated to the strength of their purpo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 Albert E Gra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ardest Habit to Live?</a:t>
            </a:r>
            <a:endParaRPr b="1" lang="en-US" sz="3600" spc="-1" strike="noStrike">
              <a:solidFill>
                <a:srgbClr val="9900cc"/>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 3</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baby ste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a:t>
            </a:r>
            <a:endParaRPr b="0" lang="en-US" sz="28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Baby Step #7 on page 128</a:t>
            </a:r>
            <a:endParaRPr b="0"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Relationship Bank Account pgs131-143</a:t>
            </a:r>
            <a:endParaRPr b="0"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Habit 4 pgs145-1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abit 3- Two Parts</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Management</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o put first things firs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e items to fulfill mission and meet goa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o overcome fear and peer pressur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t takes courage and guts to stay true to your   first things like your values and standard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e Comfort Zone</a:t>
            </a:r>
            <a:endParaRPr b="1" lang="en-US" sz="3600" spc="-1" strike="noStrike">
              <a:solidFill>
                <a:srgbClr val="9900cc"/>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a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from risk</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you are used to d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you enjoy do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e Courage Zone</a:t>
            </a:r>
            <a:endParaRPr b="1" lang="en-US" sz="3600" spc="-1" strike="noStrike">
              <a:solidFill>
                <a:srgbClr val="9900cc"/>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you have never tried befo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moment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ver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y Enter the Courage Zone?</a:t>
            </a:r>
            <a:endParaRPr b="1" lang="en-US" sz="3600" spc="-1" strike="noStrike">
              <a:solidFill>
                <a:srgbClr val="9900cc"/>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nture, risk and challenge is include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that makes you feel uncomfortable is he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ce for opportun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you miss 100% of the shots you never t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Never Let Fears Make Your Decisions</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t fear make their decision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n’t try anything new for fear of fail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ay be teams you never tried out for, clubs you never joined, someone you never spoke to for fear of being uncomfortabl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let fear make your decisions, you make your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9900cc"/>
                </a:solidFill>
                <a:latin typeface="Arial"/>
              </a:rPr>
              <a:t>Below are the events in the life history of a man who failed many times but kept trying</a:t>
            </a:r>
            <a:br>
              <a:rPr sz="2800"/>
            </a:br>
            <a:endParaRPr b="1" lang="en-US" sz="2800" spc="-1" strike="noStrike">
              <a:solidFill>
                <a:srgbClr val="9900cc"/>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ed in business at 22</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 for the state legislature at 23</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ed in business at 25</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ed with the death of his sweetheart at 26</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a nervous breakdown at 27</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speaker at 29</a:t>
            </a:r>
            <a:endParaRPr b="0" lang="en-US" sz="2000" spc="-1" strike="noStrike">
              <a:solidFill>
                <a:srgbClr val="000000"/>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a congressional nomination at 34</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elected to Congress at 37</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 re-nomination for Congress at 39</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Senate at 46</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vice-pres of the US at 4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this person?</a:t>
            </a:r>
            <a:endParaRPr b="1" lang="en-US" sz="3600" spc="-1" strike="noStrike">
              <a:solidFill>
                <a:srgbClr val="9900cc"/>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elected President of the United States when he was 51 years ol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aham Lincol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our country be if he gave up and never became Presid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rose he time he fell until he reached his dest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Be Strong in Hard Moments</a:t>
            </a:r>
            <a:endParaRPr b="1" lang="en-US" sz="3600" spc="-1" strike="noStrike">
              <a:solidFill>
                <a:srgbClr val="9900cc"/>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hard moments-occur often</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ing your homework</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up when you alarm goes off</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hard moments-occur occasionally throughout your lif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cut from a team</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dumped by a long-time boy/girl friend</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in the family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1:42:31Z</dcterms:created>
  <dc:creator>Brighton Central Schools</dc:creator>
  <dc:description/>
  <dc:language>en-US</dc:language>
  <cp:lastModifiedBy>Phil Schneider</cp:lastModifiedBy>
  <dcterms:modified xsi:type="dcterms:W3CDTF">2012-04-22T23:47:15Z</dcterms:modified>
  <cp:revision>6</cp:revision>
  <dc:subject/>
  <dc:title>The Other Half of</dc:title>
</cp:coreProperties>
</file>